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98F-7CEB-44BB-B0D3-442C48A4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884-4D85-4D55-BC7F-D0241B64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BB5-55CB-4283-8F58-3211ADF1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413-B627-43AA-90D9-CD762D20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78C1-95FA-4DFD-A9C8-55D6C621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02A8-6FE2-4F82-9368-96338347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0E8-0EDE-4D28-8B21-DD68B66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FA55-F1C0-437C-A22E-CCEDA53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927C-F06C-4105-98E0-E196D1E5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AB57-FBE7-4F65-A217-BCC5D58E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33D5-E663-42B9-91D5-56BE62DC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334-C12F-4F6C-BA69-EA221E6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F958-A195-4C1E-B134-EF6C7120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40C9-100F-46D2-8DF9-FCC33D0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B56-625D-46BE-8630-0E88AA7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B84-54D2-4775-99F1-8B09AFC0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4F2-2FD3-421F-B32A-CC5E3197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6D3-9C5B-4153-8E03-818A4FF6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F2C-EA6F-46AE-ACCF-168A195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D44-B32B-4578-83B6-44EF762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BB4-9D8A-438C-8DD7-498547F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D40-242F-4818-9065-49D090BB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6FF-5B6C-447D-AAE4-033B71E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0E8-68E9-4A7E-A4D1-BED0E24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1ABD-5E4A-4A67-9115-EEC07A3A53D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D675-CEF8-41E2-8666-CBE791DFAC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23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Divulgación e Implantación del Documento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Expectativas de Aprendizaje por Grado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Programa de Españo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8120" y="2819520"/>
          <a:ext cx="25146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25146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plicar los conocimientos lingüísticos para entender los valores, las reglas y las normas que rigen nuestro código de comunicación, y con los cuales se hace posible evaluar y mejorar la expresión oral y escrit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5. Estudiar y razonar la lengua como instrumento d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desarrollo de competencias para la comunicación analítica, crítica y creativ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6. Analizar y apreciar la creación literaria recogida e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los diversos géneros, formas y estilos como par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destacada del patrimonio cultur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Base Leg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La Ley Pública “No Child Left Behind” del 8 de enero de 2002, establec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A partir del año escolar 2005-06, las escuelas públicas elementales y secundarias del Departamento de Educación de Puerto Rico  implanten y divulguen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el documento de Expectativas Generales por Grad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finición de Concepto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55840" y="2260440"/>
            <a:ext cx="3060720" cy="3402000"/>
            <a:chOff x="2355840" y="2260440"/>
            <a:chExt cx="3060720" cy="3402000"/>
          </a:xfrm>
        </p:grpSpPr>
        <p:sp>
          <p:nvSpPr>
            <p:cNvPr id="218" name="_s9249"/>
            <p:cNvSpPr/>
            <p:nvPr/>
          </p:nvSpPr>
          <p:spPr>
            <a:xfrm flipH="1" flipV="1">
              <a:off x="3149280" y="353484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9248"/>
            <p:cNvSpPr/>
            <p:nvPr/>
          </p:nvSpPr>
          <p:spPr>
            <a:xfrm>
              <a:off x="2355840" y="2897280"/>
              <a:ext cx="851040" cy="850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Es un Ideal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9247"/>
            <p:cNvSpPr/>
            <p:nvPr/>
          </p:nvSpPr>
          <p:spPr>
            <a:xfrm flipH="1">
              <a:off x="3149280" y="417348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9246"/>
            <p:cNvSpPr/>
            <p:nvPr/>
          </p:nvSpPr>
          <p:spPr>
            <a:xfrm>
              <a:off x="2355840" y="4173480"/>
              <a:ext cx="851040" cy="8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Mínim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9245"/>
            <p:cNvSpPr/>
            <p:nvPr/>
          </p:nvSpPr>
          <p:spPr>
            <a:xfrm>
              <a:off x="3886200" y="438624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9244"/>
            <p:cNvSpPr/>
            <p:nvPr/>
          </p:nvSpPr>
          <p:spPr>
            <a:xfrm>
              <a:off x="3460680" y="4811760"/>
              <a:ext cx="851040" cy="850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Met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9243"/>
            <p:cNvSpPr/>
            <p:nvPr/>
          </p:nvSpPr>
          <p:spPr>
            <a:xfrm>
              <a:off x="4254480" y="417348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9242"/>
            <p:cNvSpPr/>
            <p:nvPr/>
          </p:nvSpPr>
          <p:spPr>
            <a:xfrm>
              <a:off x="4565520" y="4173480"/>
              <a:ext cx="851040" cy="851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Efect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9241"/>
            <p:cNvSpPr/>
            <p:nvPr/>
          </p:nvSpPr>
          <p:spPr>
            <a:xfrm flipV="1">
              <a:off x="4254480" y="353664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9240"/>
            <p:cNvSpPr/>
            <p:nvPr/>
          </p:nvSpPr>
          <p:spPr>
            <a:xfrm>
              <a:off x="4565520" y="2898720"/>
              <a:ext cx="851040" cy="851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600" spc="-1" strike="noStrike">
                  <a:solidFill>
                    <a:srgbClr val="f7d47d"/>
                  </a:solidFill>
                  <a:latin typeface="Arial"/>
                </a:rPr>
                <a:t>Proyecciones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_s9239"/>
            <p:cNvSpPr/>
            <p:nvPr/>
          </p:nvSpPr>
          <p:spPr>
            <a:xfrm flipV="1">
              <a:off x="3886200" y="311148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9238"/>
            <p:cNvSpPr/>
            <p:nvPr/>
          </p:nvSpPr>
          <p:spPr>
            <a:xfrm>
              <a:off x="3460680" y="2260440"/>
              <a:ext cx="851040" cy="851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Logr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" name="_s9237"/>
            <p:cNvSpPr/>
            <p:nvPr/>
          </p:nvSpPr>
          <p:spPr>
            <a:xfrm>
              <a:off x="3460680" y="3537000"/>
              <a:ext cx="851040" cy="8506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dc89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d47d"/>
                  </a:solidFill>
                  <a:latin typeface="Arial"/>
                </a:rPr>
                <a:t>Expectativ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finición de Concepto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03400" y="1676160"/>
            <a:ext cx="3908520" cy="4341600"/>
            <a:chOff x="2003400" y="1676160"/>
            <a:chExt cx="3908520" cy="4341600"/>
          </a:xfrm>
        </p:grpSpPr>
        <p:sp>
          <p:nvSpPr>
            <p:cNvPr id="233" name="_s104467"/>
            <p:cNvSpPr/>
            <p:nvPr/>
          </p:nvSpPr>
          <p:spPr>
            <a:xfrm flipH="1" flipV="1">
              <a:off x="3016080" y="3305160"/>
              <a:ext cx="471600" cy="2692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4466"/>
            <p:cNvSpPr/>
            <p:nvPr/>
          </p:nvSpPr>
          <p:spPr>
            <a:xfrm>
              <a:off x="2003400" y="249084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Experienci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_s104465"/>
            <p:cNvSpPr/>
            <p:nvPr/>
          </p:nvSpPr>
          <p:spPr>
            <a:xfrm flipH="1">
              <a:off x="3017520" y="4117680"/>
              <a:ext cx="469800" cy="27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4464"/>
            <p:cNvSpPr/>
            <p:nvPr/>
          </p:nvSpPr>
          <p:spPr>
            <a:xfrm>
              <a:off x="2004840" y="4119480"/>
              <a:ext cx="108612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Transferenci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_s104463"/>
            <p:cNvSpPr/>
            <p:nvPr/>
          </p:nvSpPr>
          <p:spPr>
            <a:xfrm>
              <a:off x="3957480" y="4389480"/>
              <a:ext cx="1800" cy="5439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4462"/>
            <p:cNvSpPr/>
            <p:nvPr/>
          </p:nvSpPr>
          <p:spPr>
            <a:xfrm>
              <a:off x="3416400" y="493236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Adquisición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onocimient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_s104460"/>
            <p:cNvSpPr/>
            <p:nvPr/>
          </p:nvSpPr>
          <p:spPr>
            <a:xfrm>
              <a:off x="4427640" y="4117680"/>
              <a:ext cx="47124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4459"/>
            <p:cNvSpPr/>
            <p:nvPr/>
          </p:nvSpPr>
          <p:spPr>
            <a:xfrm>
              <a:off x="4826160" y="4117680"/>
              <a:ext cx="1085760" cy="10857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Trasformació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la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Estructur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Mental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_s104458"/>
            <p:cNvSpPr/>
            <p:nvPr/>
          </p:nvSpPr>
          <p:spPr>
            <a:xfrm flipV="1">
              <a:off x="4427640" y="3303360"/>
              <a:ext cx="469800" cy="27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_s104457"/>
            <p:cNvSpPr/>
            <p:nvPr/>
          </p:nvSpPr>
          <p:spPr>
            <a:xfrm>
              <a:off x="4824360" y="248904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ambio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onduct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_s104456"/>
            <p:cNvSpPr/>
            <p:nvPr/>
          </p:nvSpPr>
          <p:spPr>
            <a:xfrm flipV="1">
              <a:off x="3957480" y="2761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_s104455"/>
            <p:cNvSpPr/>
            <p:nvPr/>
          </p:nvSpPr>
          <p:spPr>
            <a:xfrm>
              <a:off x="3414600" y="1676160"/>
              <a:ext cx="1086120" cy="10857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Aprehensió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_s104454"/>
            <p:cNvSpPr/>
            <p:nvPr/>
          </p:nvSpPr>
          <p:spPr>
            <a:xfrm>
              <a:off x="3414600" y="3305160"/>
              <a:ext cx="108612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Aprendizaje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6720" y="1371600"/>
            <a:ext cx="1143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incluye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4886280"/>
            <a:ext cx="76176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n l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tap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781360"/>
            <a:ext cx="800280" cy="6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jempl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49" name="_s1052"/>
          <p:cNvCxnSpPr/>
          <p:nvPr/>
        </p:nvCxnSpPr>
        <p:spPr>
          <a:xfrm flipH="1" flipV="1" rot="5400000">
            <a:off x="6029280" y="4952520"/>
            <a:ext cx="562680" cy="334080"/>
          </a:xfrm>
          <a:prstGeom prst="bentConnector3">
            <a:avLst>
              <a:gd name="adj1" fmla="val 106722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0" name="_s1053"/>
          <p:cNvCxnSpPr/>
          <p:nvPr/>
        </p:nvCxnSpPr>
        <p:spPr>
          <a:xfrm flipH="1" flipV="1" rot="5400000">
            <a:off x="5919480" y="2928600"/>
            <a:ext cx="838800" cy="372240"/>
          </a:xfrm>
          <a:prstGeom prst="bentConnector3">
            <a:avLst>
              <a:gd name="adj1" fmla="val 102232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51" name=""/>
          <p:cNvSpPr/>
          <p:nvPr/>
        </p:nvSpPr>
        <p:spPr>
          <a:xfrm>
            <a:off x="3505320" y="2838600"/>
            <a:ext cx="7617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detalla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819520"/>
            <a:ext cx="83844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indica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53" name="_s1056"/>
          <p:cNvCxnSpPr/>
          <p:nvPr/>
        </p:nvCxnSpPr>
        <p:spPr>
          <a:xfrm flipV="1" rot="16200000">
            <a:off x="3647520" y="3133080"/>
            <a:ext cx="829080" cy="29160"/>
          </a:xfrm>
          <a:prstGeom prst="bentConnector3">
            <a:avLst>
              <a:gd name="adj1" fmla="val 101129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4" name="_s1057"/>
          <p:cNvCxnSpPr/>
          <p:nvPr/>
        </p:nvCxnSpPr>
        <p:spPr>
          <a:xfrm flipV="1" rot="16200000">
            <a:off x="1556640" y="3118680"/>
            <a:ext cx="839160" cy="10080"/>
          </a:xfrm>
          <a:prstGeom prst="bentConnector3">
            <a:avLst>
              <a:gd name="adj1" fmla="val 13605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5" name="_s1058"/>
          <p:cNvCxnSpPr/>
          <p:nvPr/>
        </p:nvCxnSpPr>
        <p:spPr>
          <a:xfrm rot="10800000">
            <a:off x="4009320" y="1904400"/>
            <a:ext cx="2162880" cy="124560"/>
          </a:xfrm>
          <a:prstGeom prst="bentConnector3">
            <a:avLst>
              <a:gd name="adj1" fmla="val 5277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6" name="_s1059"/>
          <p:cNvCxnSpPr/>
          <p:nvPr/>
        </p:nvCxnSpPr>
        <p:spPr>
          <a:xfrm flipV="1">
            <a:off x="4019040" y="1294560"/>
            <a:ext cx="10440" cy="77220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7" name="_s1060"/>
          <p:cNvCxnSpPr/>
          <p:nvPr/>
        </p:nvCxnSpPr>
        <p:spPr>
          <a:xfrm flipH="1" flipV="1" rot="5400000">
            <a:off x="2418840" y="409320"/>
            <a:ext cx="1115280" cy="2086560"/>
          </a:xfrm>
          <a:prstGeom prst="bentConnector3">
            <a:avLst>
              <a:gd name="adj1" fmla="val 9396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58" name="_s1061"/>
          <p:cNvSpPr/>
          <p:nvPr/>
        </p:nvSpPr>
        <p:spPr>
          <a:xfrm>
            <a:off x="2647800" y="266760"/>
            <a:ext cx="2733840" cy="1028520"/>
          </a:xfrm>
          <a:prstGeom prst="roundRect">
            <a:avLst>
              <a:gd name="adj" fmla="val 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excelencia para el uso efectivo de la informació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_s1062"/>
          <p:cNvSpPr/>
          <p:nvPr/>
        </p:nvSpPr>
        <p:spPr>
          <a:xfrm>
            <a:off x="1400040" y="2038320"/>
            <a:ext cx="1114560" cy="66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contenid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_s1063"/>
          <p:cNvSpPr/>
          <p:nvPr/>
        </p:nvSpPr>
        <p:spPr>
          <a:xfrm>
            <a:off x="3486240" y="2066760"/>
            <a:ext cx="1162080" cy="66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ejecució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_s1064"/>
          <p:cNvSpPr/>
          <p:nvPr/>
        </p:nvSpPr>
        <p:spPr>
          <a:xfrm>
            <a:off x="5562720" y="2028960"/>
            <a:ext cx="1114200" cy="66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para el assessmen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_s1065"/>
          <p:cNvSpPr/>
          <p:nvPr/>
        </p:nvSpPr>
        <p:spPr>
          <a:xfrm>
            <a:off x="1228680" y="3543480"/>
            <a:ext cx="149544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Conceptos y destrezas que se espera el estudiante pueda logra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_s1066"/>
          <p:cNvSpPr/>
          <p:nvPr/>
        </p:nvSpPr>
        <p:spPr>
          <a:xfrm>
            <a:off x="3286080" y="3562200"/>
            <a:ext cx="1495440" cy="129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competencias que el estudiante debe alcanza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_s1067"/>
          <p:cNvSpPr/>
          <p:nvPr/>
        </p:nvSpPr>
        <p:spPr>
          <a:xfrm>
            <a:off x="5381640" y="3533760"/>
            <a:ext cx="1504800" cy="1305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jercicios de investigación para evaluar el dominio de las competencias de cada estánda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_s1068"/>
          <p:cNvSpPr/>
          <p:nvPr/>
        </p:nvSpPr>
        <p:spPr>
          <a:xfrm>
            <a:off x="4952880" y="541008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diagnóstico, evaluación formativa y  evaluación sumativ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oceso de Planific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Estánda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Expectativa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21337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2767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5146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43200" y="3886200"/>
            <a:ext cx="838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3886200"/>
            <a:ext cx="99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114800"/>
            <a:ext cx="0" cy="7621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5410080"/>
            <a:ext cx="0" cy="8384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tánda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7d47d"/>
                </a:solidFill>
                <a:latin typeface="Arial"/>
              </a:rPr>
              <a:t>Los Estándares de Excelencia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stablecen lo que atañe a cada materia en particular, con respecto a la proficiencia en el dominio del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conocimient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Los estándares de excelencia incluyen los cuatro (4) niveles educativos y las áreas académicas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COMUNICACIÓN ORAL Y COMUNICACIÓN ESCRIT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primer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va dirigido al alcance de las artes de hablar y escribir conforme a la producción del discurso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Se parte de la situación del estudiante como comunicador o emisor en el proceso de transmitir el mensaje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DISCRIMINACIÓN AUDITIVA, LECTURA Y OBSERVACIÓ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segundo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integra las artes de escuchar, leer y observar, mediante las cuales el estudiante actúa como receptor y destinatario del mensaj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ste estándar integra las destrezas de pensamiento crítico y el uso y manejo de los recursos tecnológicos</a:t>
            </a:r>
            <a:r>
              <a:rPr b="0" lang="es-PR" sz="3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n el proceso de aprendizaje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INVESTIGACIÓN Y TECNOLOGÍ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79af7d"/>
                </a:solidFill>
                <a:latin typeface="Arial"/>
              </a:rPr>
              <a:t>El tercer estándar </a:t>
            </a:r>
            <a:r>
              <a:rPr b="0" lang="es-PR" sz="3200" spc="-1" strike="noStrike">
                <a:solidFill>
                  <a:srgbClr val="79af7d"/>
                </a:solidFill>
                <a:latin typeface="Arial"/>
              </a:rPr>
              <a:t>establece los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conocimientos y destrezas a alcanzar para que el estudiante se convierta en un investigador, haciendo uso de la tecnologí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Descripción del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Programa de Español aspira a lograr que el estudiante domine el conjunto de las funciones del lenguaje y la comunicación de forma reflexiva, crítica y creativa. Que además,éste asuma una actitud de compromiso con su cultura y con su lengua vernácula, y desarrolle una conciencia individual y colectiva, así como unas señas de identidad y sentido de trascendencia que le permitan convertirse en un ente práctico, sensible y colaborador, capaz de aprovechar la vida plenamente y de servir a la sociedad de la cu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forma part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ÉTICA, ESTÉTICA Y CULTUR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cuarto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integra todas las artes del lenguaje para conectar al estudiante a la literatur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Éstas proveen los criterios necesarios en la toma de decisiones y sirven como marco de trabajo para el diseño del currículo desde el kindergarten hasta el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duodécimo grad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ectativas generales del aprendizaj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79af7d"/>
                </a:solidFill>
                <a:latin typeface="Arial"/>
              </a:rPr>
              <a:t>Ejemplo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 Nivel K-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af7d"/>
                </a:solidFill>
                <a:latin typeface="Arial"/>
              </a:rPr>
              <a:t>Estándar de Contenido 1:Comunicación O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4920" y="3124080"/>
          <a:ext cx="7345080" cy="2589480"/>
        </p:xfrm>
        <a:graphic>
          <a:graphicData uri="http://schemas.openxmlformats.org/drawingml/2006/table">
            <a:tbl>
              <a:tblPr/>
              <a:tblGrid>
                <a:gridCol w="1779480"/>
                <a:gridCol w="1855800"/>
                <a:gridCol w="1854000"/>
                <a:gridCol w="1855800"/>
              </a:tblGrid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l estudiante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xpresa sus ideas en oracione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stablece diferencias entre las letras y los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sonido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Se expresa oralmente con fluidez, propiedad y corrección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Crea diálogos interactivo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ectativas generales del aprendizaj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63520" y="1598760"/>
          <a:ext cx="14774760" cy="4662360"/>
        </p:xfrm>
        <a:graphic>
          <a:graphicData uri="http://schemas.openxmlformats.org/drawingml/2006/table">
            <a:tbl>
              <a:tblPr/>
              <a:tblGrid>
                <a:gridCol w="3693960"/>
                <a:gridCol w="3694320"/>
                <a:gridCol w="3693960"/>
                <a:gridCol w="36925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Mito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Realid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1.Sustituyen a los Estándar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7d47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s un complemento al documento de los Estándar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.Son destreza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.Son competencias mínimas por grados y nivel de enseñanza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.Son estrategias, técnicas de enseñanza o de avalúo.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. Son aseveraciones que describen las habilidades general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4. Son parámetro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4. Son proyecciones para alcanzar el estándar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5.No son objetivo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5.Son meta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Actividad: (Modelo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Creación de una actividad constructivista utilizando una expectativa por grado y nive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Utilizar los siguientes element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Proceso de la planificación de clase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Diseño de estrategias, métodos y técnicas de enseñanza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Integración de los estándare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Proceso de evaluación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f0b854"/>
                </a:solidFill>
                <a:latin typeface="Arial"/>
                <a:ea typeface="Arial"/>
              </a:rPr>
              <a:t>¡</a:t>
            </a:r>
            <a:r>
              <a:rPr b="1" lang="en-US" sz="3600" spc="-1" strike="noStrike">
                <a:solidFill>
                  <a:srgbClr val="f0b854"/>
                </a:solidFill>
                <a:latin typeface="Arial"/>
              </a:rPr>
              <a:t>Gracias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078440" y="1765440"/>
          <a:ext cx="352404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440" y="1765440"/>
                    <a:ext cx="352404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Propiciar un ambiente intelectual, afectivo y social en el que la comunidad escolar y cada uno de sus miembros colaboren en el proceso de aprendizaje por la construcción de conocimiento, mediante actividades comunicativas, en las cuales el maestro participe como modelo, mediador y guía, y el estudiante como agente principal, propiciando así aquellas experiencias necesarias y significativas que promuevan un desarrollo pleno e integr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f7d47d"/>
                </a:solidFill>
                <a:latin typeface="Arial"/>
              </a:rPr>
              <a:t>Meta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Que el estudiante</a:t>
            </a:r>
            <a:r>
              <a:rPr b="0" lang="es-PR" sz="2000" spc="-1" strike="noStrike">
                <a:solidFill>
                  <a:srgbClr val="2f1311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1.Desarrolle al máximo su competencia comunicativa, para que sea capaz de manejar formas autónomas de pensamiento y de comunicación, (expresión, transmisión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comprensión de mensajes) y de producción efectiva, reflexiva, crítica y creativa de textos orales y escrit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2. Se inicie en el manejo, es decir en la comprensión y l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producción, de otras formas de comunicación y lenguaj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como lo son las mediáticas y las tecnológ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3. Asuma el proyecto de su autodesarrollo pleno, de modo tal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que integre su formación espiritual, intelectual, emocional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moral, cultural y social con el estudio de su lengua vernácul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Met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3716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b854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Construya una perspectiva emancipatoria y proactiva ante la realidad históricocultural, nacional y mundial, y que se reconozca como un sujeto activo capaz de comprende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críticamente esa realidad y de transformarla responsible creativamente en el sentido de la dignidad y la solidaridad human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5. Valore de modo reflexivo y crítico el patrimonio cultural, en especial el literario,que lo identifica como puertorriqueño y como ciudadano universal, reconociendo las aportaciones de otros pueblos y culturas a nuestro desarrollo histórico, social,cultural y lingüístico. Que a su vez se sitúe en el contexto de un mundo diversificado culturalmente, que se orienta hacia la realización de los valores universal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iertos principios pedagógicos son esenciales a la noción y contenidos del Marco Curricular por lo que está justificado señalarlo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El Programa de Español hace de ellos el fundamento de la acción educativa que aspira a respaldar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estudiante construye y es protagonista de su propio aprendizaje. Es él quien, en último término, modifica y reelabora sus esquemas de conocimiento para construir su propio sab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maestro actúa como guía y mediador entre las experiencias previas y los nuevos conocimientos para que el estudiante construya aprendizajes significativos 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fectiv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3.    Los aprendizajes deben trascender el contexto en que se producen para aplicarse a nuevas situaciones y superar los conocimientos previ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. El aprendizaje debe ser funcional, es decir, aplicable a circunstancias reales de la vida, y útil para llevar a cabo otros aprendizajes y enfrentar con éxito nuev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ontenid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5. La construcción de conocimiento supondrá el desarrollo de habilidades relacionad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on aprender a aprend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Afianzar los sentimientos de amor, respeto y preservació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de la lengua vernácul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2.  Obtener vivencias existenciales y experiencias educativ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dificantes para el cultivo y perfeccionamiento de la lengu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n todas sus dimensiones: comunicación oral, comunicació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scrita y lectura comprensiva e interpretativ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3. Contribuir al desarrollo de los conocimientos, las habilidad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y las actitudes que permitan a los estudiantes convertirse e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pensadores auténticos, efectivos, críticos y creativ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57:52Z</dcterms:created>
  <dc:creator>User</dc:creator>
  <dc:description/>
  <dc:language>en-US</dc:language>
  <cp:lastModifiedBy>saavedrahl</cp:lastModifiedBy>
  <dcterms:modified xsi:type="dcterms:W3CDTF">2006-11-13T14:37:46Z</dcterms:modified>
  <cp:revision>18</cp:revision>
  <dc:subject/>
  <dc:title>Expectativas de Aprendizaje</dc:title>
</cp:coreProperties>
</file>